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jpeg" ContentType="image/jpeg"/>
  <Override PartName="/ppt/media/image4.png" ContentType="image/png"/>
  <Override PartName="/ppt/media/image5.gif" ContentType="image/gif"/>
  <Override PartName="/ppt/media/image6.gif" ContentType="image/gif"/>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99E3A-4AD4-40A2-9987-DD250467C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F4882-D918-4519-9CEB-C5D1574E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76F33-F3FC-4AC9-BD5C-D48C06000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769FC-57F8-4C06-877E-E40A1F1CA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14B1C-412A-4C82-8162-870BF18DA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1CE2D-B325-46A5-A0BA-168F11B6A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3D0CB-122B-4913-808D-7A6C7567C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BCA7E-6CF8-413E-9F84-9FAD337A0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87638-56BD-4583-A69D-CE22494E3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6495B-951F-4269-ACFA-3F6DFFE49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6BF2-0121-4394-8E3C-EBDDE7DA7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9452-2ABA-4B37-B146-DA6E3DBD2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4169-FD6A-4E02-80C9-5624EE593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ct"/><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EA OF ECONOMIC ACTIVITY</a:t>
            </a:r>
            <a:endParaRPr b="0" lang="en-US" sz="60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ONE DAY LESSON TO MAKE SENSE OF IT 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Specific Measur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P—total value of everything produced on US soil (doesn’t matter whose it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NP—total value of everything produced by US-owned industries (doesn’t matter where it 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DP—total value of everything produced after subtracting depreciation (since value was lost as stuff aged &amp; wore out it is subtracted to clarify that the increase was not all on top of what we already h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minal vs. Real</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economists everywhere use the difference here to improve accurac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inal is prices NOW—something all people understand &amp; se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 eliminates the increased value due to inflation (compares change in quantity based on a set price of any given goo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 gives a more accurate assessment of change &amp; is used almost exclusively by economis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6">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get these number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different approaches to calculating GDP—income and expenditu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dding up all incomes (ie. wages, rent, interest, and profit) we are able to tally how much our country earn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dding up all expenditures (ie. Consumption, Government, Investment, and Net Exports) we are able to tally how much our country has sp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numbers, though different approaches, always produce the same resul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es the total even matter?</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guy named OKUN figured out that for every 2% we fell behind potential GDP, the unemployment increased 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just one specific reason, but the underlying fact is that since all actions do impact everyone else, the more we have together the more we have apart.  One person’s income is another’s expendi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I.  3 Key Indicators of Macro</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v’t can analyze the total value all it wants.  There is some country is Africa or the Middle East somewhere that has one guy controlling like 75% of the wealth.  Sure he is rich and the country’s GDP is ok, but the people are dirt poor starving to dea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the total, we also highlight 3 other indicators—growth, inflation, and unemploy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Big Thre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523880"/>
            <a:ext cx="77724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ughout history there has never been a “successful” US president leave office with both popularity and a weak econom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se three provide quantitative evidence to verify just how well we are do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onically, despite having the economy thriving (BOY THINGS CHANGED IN A YEAR), something that usually dominates polls, President Bush is among the least popular presidents ev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LATION</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 is defined as a general rise in prices.  Over time stuff costs more mon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most commonly evaluated using a PRICE INDEX—average price of a marketbasket of goods  (CPI &amp; P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rices go up and some go down so in order to evaluate the cost of living, we compare the prices of a group of things toget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76">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7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EMPLOYMEN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37160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is the most obvious indicator, and most sensiti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people don’t have jobs it means that you pay for them through the safety ne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we tend to think of 0% as ideally our goal, the NATURAL RATE OF UNEMPLOYMENT is between 5-6%.</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 it’s bad, but we actually do need som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PA is ~4.4% and the USA under 5%. (BOTH INCREASED SINCE LAST YE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8">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8">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8">
                                            <p:txEl>
                                              <p:pRg st="3" end="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67652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wanting stable prices and jobs for everybody, each year we want more of them.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th is probably the least sensitive of the three.  It does not directly affect any of us on a personal level like the others, but is probably even more important on a national level.  We have maintained a steady growth rate ~3-6% throughout most of our history, and despite imports that trend is likely to contin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uble in Paradis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run into trouble when we realize that two of the goals have an inverse affect on the other.</a:t>
            </a:r>
            <a:r>
              <a:rPr b="0" lang="en-US" sz="3200" spc="-1" strike="noStrike">
                <a:solidFill>
                  <a:srgbClr val="000000"/>
                </a:solidFill>
                <a:latin typeface="Times New Roman"/>
              </a:rPr>
              <a:t>	</a:t>
            </a:r>
            <a:r>
              <a:rPr b="0" lang="en-US" sz="3200" spc="-1" strike="noStrike">
                <a:solidFill>
                  <a:srgbClr val="000000"/>
                </a:solidFill>
                <a:latin typeface="Times New Roman"/>
              </a:rPr>
              <a:t>Philips Cur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rder to have growth and low unemployment you automatically create inflation.  To lower inflation you must do so by creating unemployment and lowering growt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cannot win the war, WHAT THEN IS OUR GO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82">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82">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 to this point it hasn’t needed to make sens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realize that it has been a lot of memorization…learn this, this, this, and this.  Why?  Just  beca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hard as it is to understand, until now that was all that was essentially needed.  If you can recall the information, despite the usually accompanying comprehension, you can put it all together to make sense of everything in one short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4">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V.  Find a happy median</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we cannot have all 3 indicators be the best at the same time, we compromise by automatically gravitating towards the FULL EMPLOYMENT LEVEL OF OUTPUT.  This does not mean everyone has a job, but anyone who wants one do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ed to be the point when there is no cyclical unemploy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ll Employment Level of Output</a:t>
            </a:r>
            <a:endParaRPr b="0" lang="en-US" sz="4400" spc="-1" strike="noStrike">
              <a:solidFill>
                <a:srgbClr val="000000"/>
              </a:solidFill>
              <a:latin typeface="Times New Roman"/>
            </a:endParaRPr>
          </a:p>
        </p:txBody>
      </p:sp>
      <p:pic>
        <p:nvPicPr>
          <p:cNvPr id="86" name="" descr=""/>
          <p:cNvPicPr/>
          <p:nvPr/>
        </p:nvPicPr>
        <p:blipFill>
          <a:blip r:embed="rId2"/>
          <a:stretch/>
        </p:blipFill>
        <p:spPr>
          <a:xfrm>
            <a:off x="685440" y="1981080"/>
            <a:ext cx="2895480" cy="4114800"/>
          </a:xfrm>
          <a:prstGeom prst="rect">
            <a:avLst/>
          </a:prstGeom>
          <a:ln w="0">
            <a:noFill/>
          </a:ln>
        </p:spPr>
      </p:pic>
      <p:sp>
        <p:nvSpPr>
          <p:cNvPr id="87" name="PlaceHolder 2"/>
          <p:cNvSpPr>
            <a:spLocks noGrp="1"/>
          </p:cNvSpPr>
          <p:nvPr>
            <p:ph/>
          </p:nvPr>
        </p:nvSpPr>
        <p:spPr>
          <a:xfrm>
            <a:off x="3809880" y="1980720"/>
            <a:ext cx="510552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ll employment line shows where the economy would be producing if all who wanted had a jo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picture the economy is producing at a point under that level (want equilibrium to be at the line) &amp; is experiencing a reces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possible, however, to be producing more that that level (inflationary gap).</a:t>
            </a:r>
            <a:endParaRPr b="0" lang="en-US" sz="2800" spc="-1" strike="noStrike">
              <a:solidFill>
                <a:srgbClr val="000000"/>
              </a:solidFill>
              <a:latin typeface="Times New Roman"/>
            </a:endParaRPr>
          </a:p>
        </p:txBody>
      </p:sp>
      <p:sp>
        <p:nvSpPr>
          <p:cNvPr id="88" name=""/>
          <p:cNvSpPr/>
          <p:nvPr/>
        </p:nvSpPr>
        <p:spPr>
          <a:xfrm>
            <a:off x="990720" y="266688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9907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43000" y="2819520"/>
            <a:ext cx="2438280" cy="2057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371600" y="2209680"/>
            <a:ext cx="2146320" cy="2438640"/>
          </a:xfrm>
          <a:custGeom>
            <a:avLst/>
            <a:gdLst/>
            <a:ahLst/>
            <a:rect l="l" t="t" r="r" b="b"/>
            <a:pathLst>
              <a:path w="1352" h="1536">
                <a:moveTo>
                  <a:pt x="0" y="1536"/>
                </a:moveTo>
                <a:cubicBezTo>
                  <a:pt x="236" y="1500"/>
                  <a:pt x="472" y="1464"/>
                  <a:pt x="624" y="1392"/>
                </a:cubicBezTo>
                <a:cubicBezTo>
                  <a:pt x="776" y="1320"/>
                  <a:pt x="800" y="1264"/>
                  <a:pt x="912" y="1104"/>
                </a:cubicBezTo>
                <a:cubicBezTo>
                  <a:pt x="1024" y="944"/>
                  <a:pt x="1240" y="616"/>
                  <a:pt x="1296" y="432"/>
                </a:cubicBezTo>
                <a:cubicBezTo>
                  <a:pt x="1352" y="248"/>
                  <a:pt x="1256" y="72"/>
                  <a:pt x="1248"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971800" y="2057400"/>
            <a:ext cx="0" cy="32004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  Knowing what needs done vs. being able to get it don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very evident that the gov’t is capable of influencing the business cycle (read any editorial s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e difficult part comes from balancing what they can do, what the people want them to do, and then getting actions to have the desired effe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ll there are 3 methods of intervention—fiscal, monetary, and inc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scal vs. Monetar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different policies controlled by two different groups—the federal gov’t &amp; the Federal Reserve (or national ban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v’t cannot enforce any monetary changes and the FED cannot influence policy.  The two are separate in virtually every aspect, but it is imperative that they use their powers combined instead of apart.  The power is yours!  sor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oes each control?</a:t>
            </a:r>
            <a:endParaRPr b="0" lang="en-US" sz="4400" spc="-1" strike="noStrike">
              <a:solidFill>
                <a:srgbClr val="000000"/>
              </a:solidFill>
              <a:latin typeface="Times New Roman"/>
            </a:endParaRPr>
          </a:p>
        </p:txBody>
      </p:sp>
      <p:sp>
        <p:nvSpPr>
          <p:cNvPr id="9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scal Policy—gov’t control through taxes &amp; spend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tary Policy—FED control over the discount rate, reserve requirement, and the open market oper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scal Policy Considera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676160"/>
            <a:ext cx="777240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controlling changes in taxes &amp; spending, the gov’t also has built-in AUTOMATIC STABALIZ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business cycle (&amp; our GDP) changes these policies change without anyone making them.  If the economy is up, we will pay more taxes &amp; less will get transfer payments.  If down, vice vers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one changed anything, but the gov’t still worked to offset &amp; limit the impact of the business cyc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tion II</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218960"/>
            <a:ext cx="77724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t comes to spending, sometimes the gov’t doesn’t have a choice.  MANDATORY spending is required by law.  The biggest example is that of SAFETY NETS AND TRANSFER PAYMENTS.  If you qualify you get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ther spending is DISCRETIONARY.  If not required by law or via the Constitution, the Gov’t can </a:t>
            </a:r>
            <a:r>
              <a:rPr b="0" i="1" lang="en-US" sz="2800" spc="-1" strike="noStrike">
                <a:solidFill>
                  <a:srgbClr val="000000"/>
                </a:solidFill>
                <a:latin typeface="Times New Roman"/>
              </a:rPr>
              <a:t>choose</a:t>
            </a:r>
            <a:r>
              <a:rPr b="0" lang="en-US" sz="2800" spc="-1" strike="noStrike">
                <a:solidFill>
                  <a:srgbClr val="000000"/>
                </a:solidFill>
                <a:latin typeface="Times New Roman"/>
              </a:rPr>
              <a:t> whether or not to spend money on anything it wants to.  One year you have a grant funding research the next you don’t.  The military, public goods, and education are all discretionary (in this case since the states are respon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etary Policy</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ffectiveness of monetary policy, coming from a bank, is their ability to control/influence the money supply and corresponding interest rates.  The underlying principle is that if money is cheaper to borrow, we will borrow more of it which will increase AD &amp; GD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t costs more to borrow, we won’t want as much and the contrary will occ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ey Supply Graph</a:t>
            </a:r>
            <a:endParaRPr b="0" lang="en-US" sz="4400" spc="-1" strike="noStrike">
              <a:solidFill>
                <a:srgbClr val="000000"/>
              </a:solidFill>
              <a:latin typeface="Times New Roman"/>
            </a:endParaRPr>
          </a:p>
        </p:txBody>
      </p:sp>
      <p:sp>
        <p:nvSpPr>
          <p:cNvPr id="107" name=""/>
          <p:cNvSpPr/>
          <p:nvPr/>
        </p:nvSpPr>
        <p:spPr>
          <a:xfrm>
            <a:off x="1523880" y="205740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523880" y="5715000"/>
            <a:ext cx="63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286000" y="2438280"/>
            <a:ext cx="449568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257800" y="21337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63868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4495680" y="4876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0" y="16765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Rate</a:t>
            </a:r>
            <a:endParaRPr b="0" lang="en-US" sz="2400" spc="-1" strike="noStrike">
              <a:solidFill>
                <a:srgbClr val="000000"/>
              </a:solidFill>
              <a:latin typeface="Times New Roman"/>
            </a:endParaRPr>
          </a:p>
        </p:txBody>
      </p:sp>
      <p:sp>
        <p:nvSpPr>
          <p:cNvPr id="114" name=""/>
          <p:cNvSpPr/>
          <p:nvPr/>
        </p:nvSpPr>
        <p:spPr>
          <a:xfrm>
            <a:off x="678168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 Supply</a:t>
            </a:r>
            <a:endParaRPr b="0" lang="en-US" sz="2400" spc="-1" strike="noStrike">
              <a:solidFill>
                <a:srgbClr val="000000"/>
              </a:solidFill>
              <a:latin typeface="Times New Roman"/>
            </a:endParaRPr>
          </a:p>
        </p:txBody>
      </p:sp>
      <p:sp>
        <p:nvSpPr>
          <p:cNvPr id="115" name=""/>
          <p:cNvSpPr/>
          <p:nvPr/>
        </p:nvSpPr>
        <p:spPr>
          <a:xfrm>
            <a:off x="6324480" y="2362320"/>
            <a:ext cx="2286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crease in the money supply causes interest rates to go down.</a:t>
            </a:r>
            <a:endParaRPr b="0" lang="en-US" sz="2400" spc="-1" strike="noStrike">
              <a:solidFill>
                <a:srgbClr val="000000"/>
              </a:solidFill>
              <a:latin typeface="Times New Roman"/>
            </a:endParaRPr>
          </a:p>
        </p:txBody>
      </p:sp>
      <p:sp>
        <p:nvSpPr>
          <p:cNvPr id="116" name=""/>
          <p:cNvSpPr/>
          <p:nvPr/>
        </p:nvSpPr>
        <p:spPr>
          <a:xfrm>
            <a:off x="2362320" y="365760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ecrease in the money supply causes interest rates to increase.</a:t>
            </a:r>
            <a:endParaRPr b="0" lang="en-US" sz="2400" spc="-1" strike="noStrike">
              <a:solidFill>
                <a:srgbClr val="000000"/>
              </a:solidFill>
              <a:latin typeface="Times New Roman"/>
            </a:endParaRPr>
          </a:p>
        </p:txBody>
      </p:sp>
      <p:sp>
        <p:nvSpPr>
          <p:cNvPr id="117" name=""/>
          <p:cNvSpPr/>
          <p:nvPr/>
        </p:nvSpPr>
        <p:spPr>
          <a:xfrm>
            <a:off x="678168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to borrow</a:t>
            </a:r>
            <a:endParaRPr b="0" lang="en-US" sz="2400" spc="-1" strike="noStrike">
              <a:solidFill>
                <a:srgbClr val="000000"/>
              </a:solidFill>
              <a:latin typeface="Times New Roman"/>
            </a:endParaRPr>
          </a:p>
        </p:txBody>
      </p:sp>
      <p:sp>
        <p:nvSpPr>
          <p:cNvPr id="118" name=""/>
          <p:cNvSpPr/>
          <p:nvPr/>
        </p:nvSpPr>
        <p:spPr>
          <a:xfrm>
            <a:off x="4343400" y="5791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quant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ey Creation</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066320"/>
            <a:ext cx="7772400" cy="6248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e talk of money being “created” it doesn’t literally mean that we are printing more.  Instead it refers to our FRACTIONAL RESERVE BANKING SYSTEM.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banks only have to keep a small percentage (~10%) of your deposits, loaning out the rest they can create more when the “borrowed” money is then deposited in another bank.  Multiple people think they have the same physical currency, allowing us to increase the amount of currency we believe we have, having thus “created” m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supply multiplier = 1/R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you may feel as though you are drowning in this sea of activ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ing able to recall the macro content thus far puts you in the buoyancy of the Dead Sea (you can stay afloat w/ minimal effort but are aggravated that you still aren’t going anywher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goal for today is to take you out of the water &amp; put you at the helm of the greatest transport of our day—</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EYNESIAN CRUIS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46">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point?</a:t>
            </a:r>
            <a:endParaRPr b="0" lang="en-US" sz="4400" spc="-1" strike="noStrike">
              <a:solidFill>
                <a:srgbClr val="000000"/>
              </a:solidFill>
              <a:latin typeface="Times New Roman"/>
            </a:endParaRPr>
          </a:p>
        </p:txBody>
      </p:sp>
      <p:sp>
        <p:nvSpPr>
          <p:cNvPr id="122" name="PlaceHolder 2"/>
          <p:cNvSpPr>
            <a:spLocks noGrp="1"/>
          </p:cNvSpPr>
          <p:nvPr>
            <p:ph/>
          </p:nvPr>
        </p:nvSpPr>
        <p:spPr>
          <a:xfrm>
            <a:off x="228240" y="1981080"/>
            <a:ext cx="42670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tax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gov’t spen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discount r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eserve requir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 bonds through open market opera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PlaceHolder 3"/>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ax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gov’t spen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discount r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reserve requir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l bonds through open market operations</a:t>
            </a:r>
            <a:endParaRPr b="0" lang="en-US" sz="2800" spc="-1" strike="noStrike">
              <a:solidFill>
                <a:srgbClr val="000000"/>
              </a:solidFill>
              <a:latin typeface="Times New Roman"/>
            </a:endParaRPr>
          </a:p>
        </p:txBody>
      </p:sp>
      <p:sp>
        <p:nvSpPr>
          <p:cNvPr id="124" name=""/>
          <p:cNvSpPr/>
          <p:nvPr/>
        </p:nvSpPr>
        <p:spPr>
          <a:xfrm>
            <a:off x="838080" y="121932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st the Economy</a:t>
            </a:r>
            <a:endParaRPr b="0" lang="en-US" sz="3200" spc="-1" strike="noStrike">
              <a:solidFill>
                <a:srgbClr val="000000"/>
              </a:solidFill>
              <a:latin typeface="Times New Roman"/>
            </a:endParaRPr>
          </a:p>
        </p:txBody>
      </p:sp>
      <p:sp>
        <p:nvSpPr>
          <p:cNvPr id="125" name=""/>
          <p:cNvSpPr/>
          <p:nvPr/>
        </p:nvSpPr>
        <p:spPr>
          <a:xfrm>
            <a:off x="4876920" y="121932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800600" y="121932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ede the Econom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tential Impact</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990720"/>
            <a:ext cx="77724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the list on the preceding page, both the Federal Gov’t &amp; the Federal Reserve have the ability to influence the econom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boost the economy, it means that AD, GDP, inflation, and growth are all UP.  Unemployment will be dow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recede the economy, it means that AD, GDP, inflation, and growth are all DOWN.  Unemployment will be 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ach group individually, and especially both together, can essentially determine where we are in the business cycle based on what they 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  Things we can control</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295280"/>
            <a:ext cx="7772400" cy="6096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ltimately we have the control, but will act in predictable ways, allowing them to influence the economy how they w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things to remember that the consumer directly controls are as follows:  MPC &amp; MPS, the spending multiplier, leakages (money out) &amp; injections (money in), and capital deepen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PC really all we decide</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218960"/>
            <a:ext cx="777240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ggest thing we will influence is MPC, which decides the multiplier.  In actuality, this doesn’t change what they can do; instead, it decides how much they need to do to produce the desired eff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spend more money it means they have to change less in order to have the same “amplified” impac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e save more, their actions are less effective &amp; will then require a more substantial action on their part (spend $10 billion more instead of $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I.  HOW TO DO IT?</a:t>
            </a:r>
            <a:endParaRPr b="0" lang="en-US" sz="4400" spc="-1" strike="noStrike">
              <a:solidFill>
                <a:srgbClr val="000000"/>
              </a:solidFill>
              <a:latin typeface="Times New Roman"/>
            </a:endParaRPr>
          </a:p>
        </p:txBody>
      </p:sp>
      <p:sp>
        <p:nvSpPr>
          <p:cNvPr id="134" name="PlaceHolder 2"/>
          <p:cNvSpPr>
            <a:spLocks noGrp="1"/>
          </p:cNvSpPr>
          <p:nvPr>
            <p:ph/>
          </p:nvPr>
        </p:nvSpPr>
        <p:spPr>
          <a:xfrm>
            <a:off x="609480" y="914040"/>
            <a:ext cx="7772400" cy="6172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ext big concept of macroeconomics—now that we know what they want to do, what we can do, and how they can do it—is to figure out HOW the gov’t should intervene in order to help establish the economy they des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ly, this comes down to understanding the various schools of thought (classical, Keynesian, monetarists).  Everyone seems to have a good grip on that plus you have the handout so we will move on to the last ste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II.  OVERALL INTERACTION</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ey to mastering macro is understanding how the different things cause others to change.  Below is a list to demonstrate some of the main interactions.  When you understand them, you do not need to memorize anything for macro anymore…it will all just make sen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D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THEN GDP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533520" y="1395720"/>
            <a:ext cx="8305560" cy="521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D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then GDP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Unemployment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Inflation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Growth </a:t>
            </a:r>
            <a:r>
              <a:rPr b="0" lang="en-US" sz="2400" spc="-1" strike="noStrike">
                <a:solidFill>
                  <a:srgbClr val="000000"/>
                </a:solidFill>
                <a:latin typeface="Times New Roman"/>
                <a:ea typeface="Lucida Grande"/>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D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then GDP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Unemployment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Inflation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Growth </a:t>
            </a:r>
            <a:r>
              <a:rPr b="0" lang="en-US" sz="2400" spc="-1" strike="noStrike">
                <a:solidFill>
                  <a:srgbClr val="000000"/>
                </a:solidFill>
                <a:latin typeface="Times New Roman"/>
                <a:ea typeface="Lucida Grande"/>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R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then GDP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Unemployment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Inflation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Growth </a:t>
            </a:r>
            <a:r>
              <a:rPr b="0" lang="en-US" sz="2400" spc="-1" strike="noStrike">
                <a:solidFill>
                  <a:srgbClr val="000000"/>
                </a:solidFill>
                <a:latin typeface="Times New Roman"/>
                <a:ea typeface="Lucida Grande"/>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R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then GDP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Unemployment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Inflation </a:t>
            </a:r>
            <a:r>
              <a:rPr b="0" lang="en-US" sz="2400" spc="-1" strike="noStrike">
                <a:solidFill>
                  <a:srgbClr val="000000"/>
                </a:solidFill>
                <a:latin typeface="Times New Roman"/>
                <a:ea typeface="Lucida Grande"/>
              </a:rPr>
              <a:t>↑</a:t>
            </a:r>
            <a:r>
              <a:rPr b="0" lang="en-US" sz="2400" spc="-1" strike="noStrike">
                <a:solidFill>
                  <a:srgbClr val="000000"/>
                </a:solidFill>
                <a:latin typeface="Times New Roman"/>
              </a:rPr>
              <a:t>  Growth </a:t>
            </a:r>
            <a:r>
              <a:rPr b="0" lang="en-US" sz="2400" spc="-1" strike="noStrike">
                <a:solidFill>
                  <a:srgbClr val="000000"/>
                </a:solidFill>
                <a:latin typeface="Times New Roman"/>
                <a:ea typeface="Lucida Grande"/>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ally it comes down to this:  all of the policy changes affect the AD.  If you can keep straight which way AD changes (up or down), the impacts on the other variables are always the same.  Changes in any of the policies directly impact these variables, and vice vers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TTOM LINE</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761760"/>
            <a:ext cx="7772400" cy="6095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ntire study of macroeconomics revolves around a very simple process—WE RUN THE ECONOMY…AS THE GOV’T THEY TRY TO KEEP IT OUT OF TROUBLE…WHEN THEY FEEL IT NEEDS SOME FINE TUNING THEY ACT…THESE ACTIONS DIRECTLY IMPACT US (SOME GOOD, SOME BAD)…WE THEN CONTINUE ON FOR AWHILE UNTIL THINGS CHANGE &amp; THE PROCESS STARTS ALL OVER AG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 name=""/>
          <p:cNvGraphicFramePr/>
          <p:nvPr/>
        </p:nvGraphicFramePr>
        <p:xfrm>
          <a:off x="304920" y="2819520"/>
          <a:ext cx="4114800" cy="3765600"/>
        </p:xfrm>
        <a:graphic>
          <a:graphicData uri="http://schemas.openxmlformats.org/presentationml/2006/ole">
            <p:oleObj r:id="rId2" spid="">
              <p:embed/>
              <p:pic>
                <p:nvPicPr>
                  <p:cNvPr id="48" name="" descr=""/>
                  <p:cNvPicPr/>
                  <p:nvPr/>
                </p:nvPicPr>
                <p:blipFill>
                  <a:blip r:embed="rId3"/>
                  <a:stretch/>
                </p:blipFill>
                <p:spPr>
                  <a:xfrm>
                    <a:off x="304920" y="2819520"/>
                    <a:ext cx="4114800" cy="3765600"/>
                  </a:xfrm>
                  <a:prstGeom prst="rect">
                    <a:avLst/>
                  </a:prstGeom>
                  <a:ln w="0">
                    <a:noFill/>
                  </a:ln>
                </p:spPr>
              </p:pic>
            </p:oleObj>
          </a:graphicData>
        </a:graphic>
      </p:graphicFrame>
      <p:pic>
        <p:nvPicPr>
          <p:cNvPr id="49" name="" descr="The image “http://media.royalcaribbean.com/content/images/fleet/ships/gateway_thumbnail/shp_nv_sealevel_img_151.jpg” cannot be displayed, because it contains errors."/>
          <p:cNvPicPr/>
          <p:nvPr/>
        </p:nvPicPr>
        <p:blipFill>
          <a:blip r:embed="rId4"/>
          <a:stretch/>
        </p:blipFill>
        <p:spPr>
          <a:xfrm>
            <a:off x="3429000" y="457200"/>
            <a:ext cx="5029200" cy="2230560"/>
          </a:xfrm>
          <a:prstGeom prst="rect">
            <a:avLst/>
          </a:prstGeom>
          <a:ln w="0">
            <a:noFill/>
          </a:ln>
        </p:spPr>
      </p:pic>
      <p:pic>
        <p:nvPicPr>
          <p:cNvPr id="50" name="" descr=""/>
          <p:cNvPicPr/>
          <p:nvPr/>
        </p:nvPicPr>
        <p:blipFill>
          <a:blip r:embed="rId5"/>
          <a:stretch/>
        </p:blipFill>
        <p:spPr>
          <a:xfrm>
            <a:off x="4495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mediacall" presetID="1">
                                  <p:stCondLst>
                                    <p:cond delay="0"/>
                                  </p:stCondLst>
                                  <p:childTnLst>
                                    <p:cmd type="call" cmd="playFrom(0.0)">
                                      <p:cBhvr>
                                        <p:cTn id="40" dur="57928"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s hard to understand but we are where we need to be.  You cannot understand MACROECONOMICS without knowing all of the individual components.  Application &amp; mastery are afterthoughts once all the blocks are in place.  But now that we have our blueprints, we can finally assemble our ship.</a:t>
            </a:r>
            <a:br>
              <a:rPr sz="3600"/>
            </a:br>
            <a:r>
              <a:rPr b="0" lang="en-US" sz="2000" spc="-1" strike="noStrike">
                <a:solidFill>
                  <a:srgbClr val="000000"/>
                </a:solidFill>
                <a:latin typeface="Times New Roman"/>
              </a:rPr>
              <a:t>On a side not, all attempts at humor or cuteness are over.  Strictly business now.</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 SIMPLE STEPS TO MAKE SENSE OF THE TSUNAMI OF GRIEF &amp; FRUSTRATION</a:t>
            </a:r>
            <a:br>
              <a:rPr sz="4400"/>
            </a:br>
            <a:r>
              <a:rPr b="0" lang="en-US" sz="3200" spc="-1" strike="noStrike">
                <a:solidFill>
                  <a:srgbClr val="000000"/>
                </a:solidFill>
                <a:latin typeface="Times New Roman"/>
              </a:rPr>
              <a:t>(also known as Macroeconomics)</a:t>
            </a:r>
            <a:endParaRPr b="0" lang="en-US" sz="3200" spc="-1" strike="noStrike">
              <a:solidFill>
                <a:srgbClr val="0000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The economy is driven by our independent actions.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ing back to micro, we are reminded of CONSUMER SOVEREIGNTY.  As the little people we decide what happens in the economy based on what we decide to buy, sell, make, and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s of small, private choices control our economy…the government simply tries to influence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rcular Flow Model</a:t>
            </a:r>
            <a:endParaRPr b="0" lang="en-US" sz="4400" spc="-1" strike="noStrike">
              <a:solidFill>
                <a:srgbClr val="000000"/>
              </a:solidFill>
              <a:latin typeface="Times New Roman"/>
            </a:endParaRPr>
          </a:p>
        </p:txBody>
      </p:sp>
      <p:sp>
        <p:nvSpPr>
          <p:cNvPr id="58" name="PlaceHolder 2"/>
          <p:cNvSpPr>
            <a:spLocks noGrp="1"/>
          </p:cNvSpPr>
          <p:nvPr>
            <p:ph/>
          </p:nvPr>
        </p:nvSpPr>
        <p:spPr>
          <a:xfrm>
            <a:off x="4343400" y="1828800"/>
            <a:ext cx="44956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is connected togeth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it or not any action taken in our economy will indefinitely be felt throughout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we only care about our own actions, </a:t>
            </a:r>
            <a:r>
              <a:rPr b="0" i="1" lang="en-US" sz="2800" spc="-1" strike="noStrike">
                <a:solidFill>
                  <a:srgbClr val="000000"/>
                </a:solidFill>
                <a:latin typeface="Times New Roman"/>
              </a:rPr>
              <a:t>the gov’t is charged with caring about all of us together, but none of us on our own.</a:t>
            </a:r>
            <a:endParaRPr b="0" lang="en-US" sz="2800" spc="-1" strike="noStrike">
              <a:solidFill>
                <a:srgbClr val="000000"/>
              </a:solidFill>
              <a:latin typeface="Times New Roman"/>
            </a:endParaRPr>
          </a:p>
        </p:txBody>
      </p:sp>
      <p:pic>
        <p:nvPicPr>
          <p:cNvPr id="59" name="" descr="The image “http://www.producingohio.org/action/circular/topanimNORM.gif” cannot be displayed, because it contains errors."/>
          <p:cNvPicPr/>
          <p:nvPr/>
        </p:nvPicPr>
        <p:blipFill>
          <a:blip r:embed="rId2"/>
          <a:stretch/>
        </p:blipFill>
        <p:spPr>
          <a:xfrm>
            <a:off x="380880" y="1981080"/>
            <a:ext cx="3810240" cy="1735200"/>
          </a:xfrm>
          <a:prstGeom prst="rect">
            <a:avLst/>
          </a:prstGeom>
          <a:ln w="0">
            <a:noFill/>
          </a:ln>
        </p:spPr>
      </p:pic>
      <p:pic>
        <p:nvPicPr>
          <p:cNvPr id="60" name="" descr="The image “http://www.producingohio.org/action/circular/botanimNORM.gif” cannot be displayed, because it contains errors."/>
          <p:cNvPicPr/>
          <p:nvPr/>
        </p:nvPicPr>
        <p:blipFill>
          <a:blip r:embed="rId3"/>
          <a:stretch/>
        </p:blipFill>
        <p:spPr>
          <a:xfrm>
            <a:off x="380880" y="3733920"/>
            <a:ext cx="3810240" cy="22636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  Analysis of Entire Econom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gov’t looks at us as being a group and not individuals, the measures of economic performance are geared to evaluate our strength toge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dea of measuring an entire country is summarized as </a:t>
            </a:r>
            <a:r>
              <a:rPr b="1" lang="en-US" sz="3200" spc="-1" strike="noStrike">
                <a:solidFill>
                  <a:srgbClr val="000000"/>
                </a:solidFill>
                <a:latin typeface="Times New Roman"/>
              </a:rPr>
              <a:t>NATIONAL PRODUCT</a:t>
            </a:r>
            <a:r>
              <a:rPr b="0" lang="en-US" sz="3200" spc="-1" strike="noStrike">
                <a:solidFill>
                  <a:srgbClr val="000000"/>
                </a:solidFill>
                <a:latin typeface="Times New Roman"/>
              </a:rPr>
              <a:t>—or simply the amount of stuff any given nation produ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2">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0:31:38Z</dcterms:created>
  <dc:creator>Mike</dc:creator>
  <dc:description/>
  <dc:language>en-US</dc:language>
  <cp:lastModifiedBy>Lewisburg Area School District</cp:lastModifiedBy>
  <dcterms:modified xsi:type="dcterms:W3CDTF">2008-05-09T02:52:19Z</dcterms:modified>
  <cp:revision>18</cp:revision>
  <dc:subject/>
  <dc:title>SEA OF ECONOMIC ACTIVITY</dc:title>
</cp:coreProperties>
</file>